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5B8-DE03-4FEB-BED8-7F9AEECB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F15-79F0-4272-BED5-DB9D39ED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E51-B006-4F04-B07C-8E7B3681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083-F373-4FEA-A0EA-1C7FB759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698-BC7E-4408-857D-4C8D5DC2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684-6E42-4193-91C6-6371AEDC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751-9A48-4324-8417-D4A476BA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790-801A-451A-8C1E-80FD29BB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172-3024-4451-AD35-64650826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438-BFEC-4DF6-BB09-343198C7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F66-EE37-42A5-8B13-BB07F278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19D-43D8-4A9E-AB19-F4580C01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0063-1F7A-4203-B6B1-ACC68A39C55B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8408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E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gaton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ass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PHYS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ics Project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e4bff"/>
                </a:solidFill>
                <a:latin typeface="Comic Sans MS"/>
              </a:rPr>
              <a:t>Physics Motivation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he Installation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Very Large Laborator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MegaTon scale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the Neutrino Beam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Expected physics potentia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entative schedule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6D1-E660-4280-9522-9BFE8E0D97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25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19E-0A61-40AA-8A0C-510C87369DB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Specific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request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 from the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MEMPHY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Group</a:t>
            </a:r>
            <a:br>
              <a:rPr sz="2400"/>
            </a:b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to the European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FP7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Network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82880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Networking activities</a:t>
            </a:r>
            <a:r>
              <a:rPr b="0" lang="en-US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1) 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Physics potential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of Large Deep Underground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Experiments in both non- accelerator an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ccelerator sector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2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Underground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Laboratories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or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“Mega” detector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best strategie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for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 excav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, access a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equipment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(ventilation, air-conditioning, power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supply, etc.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3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Safety optimis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in Very Large Undergrou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acilitie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88F-F603-4C8E-9018-60E8CA24C94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83808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B) Joint research activit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1) Development, in close connection with industry (Photonis)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cheap photo-detector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ptimized for covering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large area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suitable to detect Cerenkov light (visible + UV) with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high efficiency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vacuum photo-tube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”standard” (with dynodes) PM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“hybrid” (with PIN or APD diodes) HPD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gaseous photo-tubes,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“wall paper” shaped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CsI photo-cathode (Ultra-Violet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bi-alcali photo-cathode (visible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2) Associate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ultiplex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power supply an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integrat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electron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739-E13A-47E5-A88D-70DD857CB1C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C)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Design Stud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the excavation 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3 to 5 “shafts”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f about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250000 m3 each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in the central region of the Fréjus Tunnel,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associated equipment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and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echanics of the detector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module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precise “in situ” investigation of the rock quality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optimisation of the shafts shape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c) optimisation (choice) of the type of local acces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d) definition of the required equipments : ventilation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air-conditioning, water purification “factory”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lectric power supply, etc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) definition of the best solution for the water containment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for the photo-detectors support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11C-867E-41C7-A143-1AB6DEF7A32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533520"/>
            <a:ext cx="7315200" cy="81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inancial contributions asked to FP7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s considered from the MEMPHYS project point of view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10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Networking Activitie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35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Joint Research Activ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R&amp;D for Photodetectors and electronics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5 M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Design Stud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f the Laborator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nd the mechanics of the detector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5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0200-7B38-46C9-8FD0-5B12B75D3FB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4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7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2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7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24200" y="1371600"/>
            <a:ext cx="2241720" cy="2825640"/>
            <a:chOff x="3724200" y="1371600"/>
            <a:chExt cx="2241720" cy="2825640"/>
          </a:xfrm>
        </p:grpSpPr>
        <p:sp>
          <p:nvSpPr>
            <p:cNvPr id="62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724200" y="1371600"/>
              <a:ext cx="2241720" cy="2792520"/>
              <a:chOff x="3724200" y="1371600"/>
              <a:chExt cx="2241720" cy="2792520"/>
            </a:xfrm>
          </p:grpSpPr>
          <p:sp>
            <p:nvSpPr>
              <p:cNvPr id="64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33720" y="16099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4200" y="29466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301680" y="990720"/>
            <a:ext cx="4465440" cy="4792680"/>
            <a:chOff x="301680" y="990720"/>
            <a:chExt cx="4465440" cy="47926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301680" y="4581720"/>
              <a:ext cx="227124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6200" y="1825920"/>
              <a:ext cx="21816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120" y="320364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5265720"/>
              <a:ext cx="183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33200" y="525312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4114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AD2-A8AD-453D-B32E-0E1EFC16F9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0CC-42E6-4277-812A-C146B71E34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1040" y="1386000"/>
            <a:ext cx="843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4800 m.w.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where the quality of the rock is the best !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of excavating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4495680" cy="311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3520" y="3657600"/>
            <a:ext cx="3124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stimated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cos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≈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80 M€ x Nb of shaf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FDC-0EA4-4DE5-85A4-862A7C2F00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B85-BCD6-446E-A9F5-EA6B1FAF0D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6E7-F250-453C-A7FB-8CFFD838F6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59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</a:t>
            </a:r>
            <a:br>
              <a:rPr sz="32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non accelerator physics</a:t>
            </a:r>
            <a:br>
              <a:rPr sz="2800"/>
            </a:b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ucleon decay</a:t>
            </a:r>
            <a:r>
              <a:rPr b="0" lang="en-GB" sz="2400" spc="-1" strike="noStrike" baseline="30000">
                <a:solidFill>
                  <a:srgbClr val="3e4b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    up to </a:t>
            </a:r>
            <a:r>
              <a:rPr b="0" lang="ja-JP" sz="2000" spc="-1" strike="noStrike">
                <a:solidFill>
                  <a:srgbClr val="e31d18"/>
                </a:solidFill>
                <a:latin typeface="Arial"/>
              </a:rPr>
              <a:t>～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e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   few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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K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with a detection threshold below 6MeV 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eutrino burs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150,00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SN at 10kpc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5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Andromeda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Relic Neutrino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past 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 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pur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water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Gd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loaded water)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C0C-AE4D-452F-AB4A-0C62A22D56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867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 </a:t>
            </a:r>
            <a:r>
              <a:rPr b="0" lang="en-GB" sz="2000" spc="-1" strike="noStrike">
                <a:solidFill>
                  <a:srgbClr val="2c2bdf"/>
                </a:solidFill>
                <a:latin typeface="Comic Sans MS"/>
              </a:rPr>
              <a:t>(continued)</a:t>
            </a:r>
            <a:br>
              <a:rPr sz="48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B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ccelerator physics</a:t>
            </a: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PMNS matrix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arameters measurement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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&lt; 0.7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@90%CL (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beam 2.5Mt.y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-&gt;  for 40°&lt;|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|&lt;140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violation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discovery @ &gt; 3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 at </a:t>
            </a:r>
            <a:r>
              <a:rPr b="0" lang="en-GB" sz="2000" spc="-1" strike="noStrike">
                <a:solidFill>
                  <a:srgbClr val="3e4bff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3e4bff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= 1° and 10yrs of Beta Beam and Super Beam 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270-6D84-4B3D-8ECC-FC311D9E57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60640" y="299412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3228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84720" y="299556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8472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5040" y="2717640"/>
            <a:ext cx="19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2600" y="2717640"/>
            <a:ext cx="32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254-BB1F-4C8B-9D6A-EAB8900AFFD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J.E Campagne</cp:lastModifiedBy>
  <dcterms:modified xsi:type="dcterms:W3CDTF">2005-11-14T08:44:06Z</dcterms:modified>
  <cp:revision>32</cp:revision>
  <dc:subject/>
  <dc:title>Présentation PowerPoint</dc:title>
</cp:coreProperties>
</file>